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 Chilvers" initials="CC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9-07-19T22:47:30.666000000" idx="4">
    <p:pos x="5057" y="2499"/>
    <p:text>Not sure about what this says?
Should it be:
Connect to a problem the graph and the vertex to avoid isolated and unconnected knowled...
Or
Connect a problem to the graph and the vertex...etc</p:text>
  </p:cm>
</p:cmLst>
</file>

<file path=ppt/comments/comment2.xml><?xml version="1.0" encoding="utf-8"?>
<p:cmLst xmlns:p="http://schemas.openxmlformats.org/presentationml/2006/main">
  <p:cm authorId="0" dt="2009-07-19T22:37:18.918000000" idx="1">
    <p:pos x="4608" y="1494"/>
    <p:text>Should that be partial understandings?  conceptions sounds funny in my head, but so do many things</p:text>
  </p:cm>
</p:cmLst>
</file>

<file path=ppt/comments/comment7.xml><?xml version="1.0" encoding="utf-8"?>
<p:cmLst xmlns:p="http://schemas.openxmlformats.org/presentationml/2006/main">
  <p:cm authorId="0" dt="2009-07-19T22:41:42.278000000" idx="2">
    <p:pos x="5350" y="3007"/>
    <p:text>Rephrase?
have two different, potentially conflicting algebraic and graphical schemes in the cognitive structure (The phenomenon of compartmentalization)
Or just (compartmentalization)
</p:text>
  </p:cm>
</p:cmLst>
</file>

<file path=ppt/comments/comment8.xml><?xml version="1.0" encoding="utf-8"?>
<p:cmLst xmlns:p="http://schemas.openxmlformats.org/presentationml/2006/main">
  <p:cm authorId="0" dt="2009-07-19T22:44:29.087000000" idx="3">
    <p:pos x="5184" y="3007"/>
    <p:text>This one still worries m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2C55-BDDD-4D3E-9469-213647072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776-5364-4E26-A686-0E4078AD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1818-C1B3-49C1-A7C1-D443D5AE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F4A-71D0-4B31-9F98-D501EE6F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D05-DBDB-417E-9B98-185B6152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CE14-496C-4566-B8E9-BB913F66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D4A-7A70-44EF-9D4B-F902447A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EB45-68E2-4EE5-8FCC-C8A4B7FE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7F5-DDDF-48EA-96CD-37F365B7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F80-6ACB-47B5-96C2-ED65018B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5EC5-4B61-4732-BF33-8A030B38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83E-1AC8-4DB3-A47B-F526D134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0115-23F7-4603-86DE-A966F70F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C79-C038-4DDF-A821-87312A400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0AE-6361-422D-BBDF-CBAFFE7E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3BF-EDB2-4C23-AA2F-2C0DFF58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F73-77A6-4DF0-9ABF-3354774E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B56-9A0B-4A86-8B4D-3C7E010A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F434-9A1C-41D0-8FF6-F9F70E3B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E86-E2FA-431F-849D-6DBFA565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&lt;&lt; Both student struggles and teacher suggestions need to be edited – I just copied them all in for now but we will need to reduce the list to remove repetitive entries&gt;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80B-56EF-46BA-B9B9-A26DA8E3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25D-69DF-4678-93A6-7082F92B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728-D3DE-41C1-976F-6067A611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91C7-51F0-47CC-9A2F-3A2874FE5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A61-9EF7-4E13-98E7-3F87E974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05E-3089-4B67-8D4C-6C8AC884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330-6AE9-4A06-A8A3-37C6513B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03D-F5E2-46E9-9128-104AAB09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33F-11ED-4B06-B569-BE4F5F72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6E33-C7E7-454F-8DB3-AE2C3489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D79-3478-4440-ADD9-BEBDE73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F62B-28E1-4C90-A6B1-EA61D446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09F-9622-4F58-B0F1-5E6BAB66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EAE-B2B6-4393-82BE-73B77DC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692F-E84F-4081-8467-DE6024A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B850-8916-47C3-A24C-A462D30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71B-AA3A-4652-BFFA-A5311870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E99C-5E20-4B91-BEAF-7D0E22A7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3574-3185-439A-98C2-B2DCF58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9E5-6CC2-4DEB-9B97-E948839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615-6FD2-4E52-BB33-748E8184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B2FC-283C-49BA-8976-909607AB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5A2-1AD5-45C2-B398-51CCCFFF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D3F-98AD-4449-8EC4-2A8BCCFC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1A5-87E8-4801-AA58-F86CCA2D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5C0-7A2B-4A49-83FF-E68AC1F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601-12B6-46E2-B84E-0C5B859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9D1-D640-4438-81D8-3A5A8C5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9E7-7D2D-4086-8601-059F325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2B25-AAA8-4825-A3BB-010FD122050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6F59-1360-4745-A0AE-FB81CC81739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,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c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conceptions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o we want to show the link to clips here too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henomenon of compartmentalization – having two different, potentially conflicting algebraic and graphical schemes in the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build quadratic functions by multiplying linear functions (rather than seeing them as a new, unrelated to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7-20T03:15:25Z</dcterms:modified>
  <cp:revision>135</cp:revision>
  <dc:subject/>
  <dc:title>Slide 1</dc:title>
</cp:coreProperties>
</file>